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29.wmf" ContentType="image/x-wmf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3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4.jpeg" ContentType="image/jpeg"/>
  <Override PartName="/ppt/media/image8.wmf" ContentType="image/x-wmf"/>
  <Override PartName="/ppt/media/image12.jpeg" ContentType="image/jpeg"/>
  <Override PartName="/ppt/media/image34.png" ContentType="image/png"/>
  <Override PartName="/ppt/media/image13.jpeg" ContentType="image/jpeg"/>
  <Override PartName="/ppt/media/image30.png" ContentType="image/png"/>
  <Override PartName="/ppt/media/image33.jpeg" ContentType="image/jpeg"/>
  <Override PartName="/ppt/media/image27.jpeg" ContentType="image/jpeg"/>
  <Override PartName="/ppt/media/image35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11.wmf" ContentType="image/x-wmf"/>
  <Override PartName="/ppt/media/image5.jpeg" ContentType="image/jpeg"/>
  <Override PartName="/ppt/media/image9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6.jpeg" ContentType="image/jpeg"/>
  <Override PartName="/ppt/media/image18.png" ContentType="image/png"/>
  <Override PartName="/ppt/media/image1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4FA8-79A0-4218-AC98-67D6DD241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6EDB-B7ED-4BBE-86ED-D94C2810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EABC-30F7-4F03-8F26-216D0306D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3CF1-ED46-4F6F-A929-47020ECF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49DC-389C-490D-A057-D9393B67E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27E9-6317-4613-A9AD-AD2EB73B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68C4-E638-4A49-8A73-BE9DABF2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A743-8953-4380-B88C-26EB7C81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47D9-ABE8-4FB6-A3C2-D32739ED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AD7C-E39A-4932-ABB6-D7043923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530E-D0A5-4950-89AE-4793699B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2067-42D3-4D6E-BD16-677FC097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F4F1-4902-4BCD-B563-9DD96FA9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555C-8352-46EE-94C8-E6F1D13F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CA69-8F40-498D-922F-A87B19F9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1BB4-2707-4DAB-B840-DB29205F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078E-EE92-46A0-8260-68DD25990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7B4C-F1A1-46B3-A39E-731FD506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BB3A-95AF-4F20-A045-CA82A783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CD34-0E86-4213-83EB-30866F58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0FCE-0807-4291-8D6E-82EF66EB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B336-1707-4E26-8E56-F6C59E15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E554-5AF0-44C5-89FA-7860AA18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0C54-5AB2-45A2-8BBC-D6332DEC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84F0-518A-450E-9AFB-ED9D57F2E3C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4495-9F95-4838-93D3-99A88667171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6666"/>
                </a:solidFill>
                <a:latin typeface="Arial Black"/>
              </a:rPr>
              <a:t>ΑΡΙΣΤΟΤΕΛΕΙΟ ΠΑΝΕΠΙΣΤΗΜΙΟ ΘΕΣΣΑΛΟΝΙΚΗΣ</a:t>
            </a:r>
            <a:br>
              <a:rPr sz="1800"/>
            </a:br>
            <a:r>
              <a:rPr b="1" lang="el-GR" sz="1800" spc="-1" strike="noStrike">
                <a:solidFill>
                  <a:srgbClr val="336666"/>
                </a:solidFill>
                <a:latin typeface="Arial Black"/>
              </a:rPr>
              <a:t>ΤΜΗΜΑ ΧΗΜΕΙΑΣ</a:t>
            </a:r>
            <a:br>
              <a:rPr sz="1800"/>
            </a:br>
            <a:r>
              <a:rPr b="1" lang="el-GR" sz="1800" spc="-1" strike="noStrike">
                <a:solidFill>
                  <a:srgbClr val="336666"/>
                </a:solidFill>
                <a:latin typeface="Arial"/>
              </a:rPr>
              <a:t>Διαπανεπιστημιακό Διατμηματικό Πρόγραμμα Μεταπτυχιακών  Σπουδών</a:t>
            </a:r>
            <a:br>
              <a:rPr sz="1800"/>
            </a:br>
            <a:r>
              <a:rPr b="1" lang="el-GR" sz="1800" spc="-1" strike="noStrike">
                <a:solidFill>
                  <a:srgbClr val="336666"/>
                </a:solidFill>
                <a:latin typeface="Arial"/>
              </a:rPr>
              <a:t>της Διδακτικής της Χημείας και των Νέων Εκπαιδευτικών Τεχνολογιών</a:t>
            </a:r>
            <a:br>
              <a:rPr sz="1800"/>
            </a:br>
            <a:r>
              <a:rPr b="0" lang="el-GR" sz="37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l-GR" sz="1800" spc="-1" strike="noStrike">
                <a:solidFill>
                  <a:srgbClr val="336666"/>
                </a:solidFill>
                <a:latin typeface="Arial Black"/>
              </a:rPr>
              <a:t>ΔιχηΝΕΤ </a:t>
            </a:r>
            <a:br>
              <a:rPr sz="1800"/>
            </a:br>
            <a:r>
              <a:rPr b="0" lang="el-GR" sz="1400" spc="-1" strike="noStrike">
                <a:solidFill>
                  <a:srgbClr val="336666"/>
                </a:solidFill>
                <a:latin typeface="Arial"/>
              </a:rPr>
              <a:t>Θεσσαλονικη 2010</a:t>
            </a:r>
            <a:endParaRPr b="0" lang="en-US" sz="1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92000" y="5084640"/>
            <a:ext cx="604836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300" spc="-1" strike="noStrike">
                <a:solidFill>
                  <a:srgbClr val="000000"/>
                </a:solidFill>
                <a:latin typeface="Arial"/>
              </a:rPr>
              <a:t>ΚΑΤΑΛΥΣΗ ΜΕΤΑΦΟΡΑΣ ΦΑΣΗ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Επιβλέπουσα Καθηγήτρια: Κ. Χατζηαντωνίο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εταπτυχιακές Φοιτήτριε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ακλά ιωάννα            Σολομανίδου Αγγελίνα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Α"/>
          <p:cNvPicPr/>
          <p:nvPr/>
        </p:nvPicPr>
        <p:blipFill>
          <a:blip r:embed="rId1"/>
          <a:stretch/>
        </p:blipFill>
        <p:spPr>
          <a:xfrm>
            <a:off x="468360" y="69228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green_chem"/>
          <p:cNvPicPr/>
          <p:nvPr/>
        </p:nvPicPr>
        <p:blipFill>
          <a:blip r:embed="rId2"/>
          <a:stretch/>
        </p:blipFill>
        <p:spPr>
          <a:xfrm>
            <a:off x="4211640" y="4869000"/>
            <a:ext cx="79200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300" spc="-1" strike="noStrike">
                <a:solidFill>
                  <a:srgbClr val="000000"/>
                </a:solidFill>
                <a:latin typeface="Arial"/>
              </a:rPr>
              <a:t>Ετερογενείς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νεργούν σε διαφορετική φάση (στερεή,υγρή, αέρια) από τα αντιδραστήρι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ίναι «υποστηριζόμενοι» διαλύτες δηλαδή, στερεά που δρούν σε υποστρώματα σε ένα υγρό ή αέριο μίγμα αντίδρασ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Παράδειγμ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Διαδικασία Haber-Β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: Ο λεπτά διαμερισμένος σίδηρος λειτουργεί ως καταλύτης για τη σύνθεση της αμμωνίας από το άζωτο και το υδρογόν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1258920" y="476280"/>
            <a:ext cx="7200720" cy="1152360"/>
          </a:xfrm>
          <a:custGeom>
            <a:avLst/>
            <a:gdLst>
              <a:gd name="textAreaLeft" fmla="*/ 1800000 w 7200720"/>
              <a:gd name="textAreaRight" fmla="*/ 5400720 w 7200720"/>
              <a:gd name="textAreaTop" fmla="*/ 0 h 1152360"/>
              <a:gd name="textAreaBottom" fmla="*/ 1008360 h 1152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ΚΑΤΗΓΟΡΙΕ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ΚΑΤΑΛΥΤ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Object 10"/>
          <p:cNvGraphicFramePr/>
          <p:nvPr/>
        </p:nvGraphicFramePr>
        <p:xfrm>
          <a:off x="2916360" y="5589720"/>
          <a:ext cx="3456000" cy="72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5589720"/>
                    <a:ext cx="345600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300" spc="-1" strike="noStrike">
                <a:solidFill>
                  <a:srgbClr val="000000"/>
                </a:solidFill>
                <a:latin typeface="Arial"/>
              </a:rPr>
              <a:t>Ομογενείς καταλύτες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ρούν στην ίδια φάση (στερεή,υγρή, αέρια) με τα αντιδραστήρι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92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ομογενής κατάλυση είναι συχνά συνώνυμη με τους οργανομεταλλικούς καταλύτες</a:t>
            </a:r>
            <a:r>
              <a:rPr b="0" lang="el-GR" sz="3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μφανίζουν μεγάλη δραστικότητα, εκλεκτικότητα και ήπιες συνθήκες αντίδρασ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 καταλύτης  δε διαχωρίζεται από τα προϊόντ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Παράδειγμ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δρογόνωση αλκενί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1258920" y="476280"/>
            <a:ext cx="7200720" cy="1152360"/>
          </a:xfrm>
          <a:custGeom>
            <a:avLst/>
            <a:gdLst>
              <a:gd name="textAreaLeft" fmla="*/ 1800000 w 7200720"/>
              <a:gd name="textAreaRight" fmla="*/ 5400720 w 7200720"/>
              <a:gd name="textAreaTop" fmla="*/ 0 h 1152360"/>
              <a:gd name="textAreaBottom" fmla="*/ 1008360 h 1152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ΚΑΤΗΓΟΡΙΕ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ΚΑΤΑΛΥΤ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9"/>
          <p:cNvGraphicFramePr/>
          <p:nvPr/>
        </p:nvGraphicFramePr>
        <p:xfrm>
          <a:off x="5003640" y="5300640"/>
          <a:ext cx="370872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5300640"/>
                    <a:ext cx="37087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4"/>
          <p:cNvSpPr/>
          <p:nvPr/>
        </p:nvSpPr>
        <p:spPr>
          <a:xfrm>
            <a:off x="1258920" y="476280"/>
            <a:ext cx="7200720" cy="1152360"/>
          </a:xfrm>
          <a:custGeom>
            <a:avLst/>
            <a:gdLst>
              <a:gd name="textAreaLeft" fmla="*/ 1800000 w 7200720"/>
              <a:gd name="textAreaRight" fmla="*/ 5400720 w 7200720"/>
              <a:gd name="textAreaTop" fmla="*/ 0 h 1152360"/>
              <a:gd name="textAreaBottom" fmla="*/ 1008360 h 1152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ΚΑΤΗΓΟΡΙΕ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ΚΑΤΑΛΥΤ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σάρωση0007"/>
          <p:cNvPicPr/>
          <p:nvPr/>
        </p:nvPicPr>
        <p:blipFill>
          <a:blip r:embed="rId1"/>
          <a:stretch/>
        </p:blipFill>
        <p:spPr>
          <a:xfrm>
            <a:off x="826920" y="1773360"/>
            <a:ext cx="7632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4"/>
          <p:cNvSpPr/>
          <p:nvPr/>
        </p:nvSpPr>
        <p:spPr>
          <a:xfrm>
            <a:off x="1042920" y="476280"/>
            <a:ext cx="7201080" cy="1152360"/>
          </a:xfrm>
          <a:custGeom>
            <a:avLst/>
            <a:gdLst>
              <a:gd name="textAreaLeft" fmla="*/ 1800360 w 7201080"/>
              <a:gd name="textAreaRight" fmla="*/ 5401080 w 7201080"/>
              <a:gd name="textAreaTop" fmla="*/ 0 h 1152360"/>
              <a:gd name="textAreaBottom" fmla="*/ 1008360 h 1152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ΚΑΤΗΓΟΡΙΕ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ΚΑΤΑΛΥΤ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6"/>
          <p:cNvGrpSpPr/>
          <p:nvPr/>
        </p:nvGrpSpPr>
        <p:grpSpPr>
          <a:xfrm>
            <a:off x="468360" y="1905120"/>
            <a:ext cx="7989480" cy="4402440"/>
            <a:chOff x="468360" y="1905120"/>
            <a:chExt cx="7989480" cy="4402440"/>
          </a:xfrm>
        </p:grpSpPr>
        <p:sp>
          <p:nvSpPr>
            <p:cNvPr id="131" name="AutoShape 5"/>
            <p:cNvSpPr/>
            <p:nvPr/>
          </p:nvSpPr>
          <p:spPr>
            <a:xfrm>
              <a:off x="468360" y="1905120"/>
              <a:ext cx="7989480" cy="440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2" name="_s87053"/>
            <p:cNvCxnSpPr>
              <a:stCxn id="133" idx="0"/>
              <a:endCxn id="134" idx="2"/>
            </p:cNvCxnSpPr>
            <p:nvPr/>
          </p:nvCxnSpPr>
          <p:spPr>
            <a:xfrm flipV="1" rot="16200000">
              <a:off x="5420160" y="2707200"/>
              <a:ext cx="880920" cy="2796840"/>
            </a:xfrm>
            <a:prstGeom prst="bentConnector3">
              <a:avLst>
                <a:gd name="adj1" fmla="val 12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87052"/>
            <p:cNvCxnSpPr>
              <a:stCxn id="136" idx="0"/>
              <a:endCxn id="134" idx="2"/>
            </p:cNvCxnSpPr>
            <p:nvPr/>
          </p:nvCxnSpPr>
          <p:spPr>
            <a:xfrm flipV="1">
              <a:off x="4462920" y="3665160"/>
              <a:ext cx="2880" cy="880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87051"/>
            <p:cNvCxnSpPr>
              <a:stCxn id="138" idx="0"/>
              <a:endCxn id="134" idx="2"/>
            </p:cNvCxnSpPr>
            <p:nvPr/>
          </p:nvCxnSpPr>
          <p:spPr>
            <a:xfrm flipH="1" flipV="1" rot="5400000">
              <a:off x="2624040" y="2707200"/>
              <a:ext cx="880920" cy="2796840"/>
            </a:xfrm>
            <a:prstGeom prst="bentConnector3">
              <a:avLst>
                <a:gd name="adj1" fmla="val 12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4" name="_s87047"/>
            <p:cNvSpPr/>
            <p:nvPr/>
          </p:nvSpPr>
          <p:spPr>
            <a:xfrm>
              <a:off x="3264480" y="1905120"/>
              <a:ext cx="2396520" cy="17607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0000"/>
                  </a:solidFill>
                  <a:latin typeface="Arial"/>
                </a:rPr>
                <a:t>Βιοκαταλύτε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87048"/>
            <p:cNvSpPr/>
            <p:nvPr/>
          </p:nvSpPr>
          <p:spPr>
            <a:xfrm>
              <a:off x="468360" y="4546440"/>
              <a:ext cx="2396520" cy="17607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00"/>
                  </a:solidFill>
                  <a:latin typeface="Arial"/>
                </a:rPr>
                <a:t>Ένζυμα πο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l-GR" sz="1600" spc="-1" strike="noStrike">
                  <a:solidFill>
                    <a:srgbClr val="000000"/>
                  </a:solidFill>
                  <a:latin typeface="Arial"/>
                </a:rPr>
                <a:t>δρουν ως  καταλύτε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00"/>
                  </a:solidFill>
                  <a:latin typeface="Arial"/>
                </a:rPr>
                <a:t>σε χημικές διεργασίες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87049"/>
            <p:cNvSpPr/>
            <p:nvPr/>
          </p:nvSpPr>
          <p:spPr>
            <a:xfrm>
              <a:off x="3264480" y="4546440"/>
              <a:ext cx="2396520" cy="17607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00"/>
                  </a:solidFill>
                  <a:latin typeface="Arial"/>
                </a:rPr>
                <a:t>Δραστικότητα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00"/>
                  </a:solidFill>
                  <a:latin typeface="Arial"/>
                </a:rPr>
                <a:t>ενζύμων: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H</a:t>
              </a:r>
              <a:r>
                <a:rPr b="1" lang="el-GR" sz="16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00"/>
                  </a:solidFill>
                  <a:latin typeface="Arial"/>
                </a:rPr>
                <a:t>θερμοκρασία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00"/>
                  </a:solidFill>
                  <a:latin typeface="Arial"/>
                </a:rPr>
                <a:t>συγκέντρωση ενζύμου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00"/>
                  </a:solidFill>
                  <a:latin typeface="Arial"/>
                </a:rPr>
                <a:t>υποστρώματος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00"/>
                  </a:solidFill>
                  <a:latin typeface="Arial"/>
                </a:rPr>
                <a:t>προϊόντων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87050"/>
            <p:cNvSpPr/>
            <p:nvPr/>
          </p:nvSpPr>
          <p:spPr>
            <a:xfrm>
              <a:off x="6060960" y="4546440"/>
              <a:ext cx="2396520" cy="17607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00"/>
                  </a:solidFill>
                  <a:latin typeface="Arial"/>
                </a:rPr>
                <a:t>Χρησιμοποιούντα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00"/>
                  </a:solidFill>
                  <a:latin typeface="Arial"/>
                </a:rPr>
                <a:t>στην παρασκευή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00"/>
                  </a:solidFill>
                  <a:latin typeface="Arial"/>
                </a:rPr>
                <a:t>πολλών χημικών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00"/>
                  </a:solidFill>
                  <a:latin typeface="Arial"/>
                </a:rPr>
                <a:t>προϊόντω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l-GR" sz="1600" spc="-1" strike="noStrike">
                  <a:solidFill>
                    <a:srgbClr val="000000"/>
                  </a:solidFill>
                  <a:latin typeface="Arial"/>
                </a:rPr>
                <a:t>(αμυλοσιρόπι)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Picture 17" descr="demonstration"/>
            <p:cNvPicPr/>
            <p:nvPr/>
          </p:nvPicPr>
          <p:blipFill>
            <a:blip r:embed="rId1"/>
            <a:stretch/>
          </p:blipFill>
          <p:spPr>
            <a:xfrm>
              <a:off x="7092720" y="1989360"/>
              <a:ext cx="1328400" cy="161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η πορώδη στερεά, όπως π.χ. η επιφάνεια ενός μεταλλικού φύλλο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ορώδη στερεά, όπως π.χ. ο γαιάνθρακα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τερεά, τα οποία παρασκευάζονται με διασπορά μιας καταλυτικά ενεργού φάσης σε ένα πορώδες υλικό.</a:t>
            </a:r>
            <a:r>
              <a:rPr b="0" lang="el-GR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1042920" y="333360"/>
            <a:ext cx="7201080" cy="1295280"/>
          </a:xfrm>
          <a:custGeom>
            <a:avLst/>
            <a:gdLst>
              <a:gd name="textAreaLeft" fmla="*/ 1800360 w 7201080"/>
              <a:gd name="textAreaRight" fmla="*/ 5401080 w 7201080"/>
              <a:gd name="textAreaTop" fmla="*/ 0 h 1295280"/>
              <a:gd name="textAreaBottom" fmla="*/ 1133640 h 12952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ΙΔΗ ΚΑΤΑΛΥΤΙΚΩ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ΠΙΦΑΝΕΙ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6516720" y="4581360"/>
            <a:ext cx="187956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τους τομεί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ης ενέργει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πεξεργασίας τροφίμ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ης παραγωγής βιομηχανικών ουσιών μεγάλης κλίμακα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lk chemicals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ων φαρμακευτικών υλ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ων εξειδικευμένων χημικών ουσι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ων νέων υλικ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ης πληροφορική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ης βιοιατρική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ης βιοτεχνολογί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κατάλυση αποτελεί το θεμέλιο λίθο της Πράσινης και Βιώσιμης Χημεί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1042920" y="333360"/>
            <a:ext cx="7201080" cy="1295280"/>
          </a:xfrm>
          <a:custGeom>
            <a:avLst/>
            <a:gdLst>
              <a:gd name="textAreaLeft" fmla="*/ 1800360 w 7201080"/>
              <a:gd name="textAreaRight" fmla="*/ 5401080 w 7201080"/>
              <a:gd name="textAreaTop" fmla="*/ 0 h 1295280"/>
              <a:gd name="textAreaBottom" fmla="*/ 1133640 h 12952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ΦΑΡΜΟΓΕΣ ΤΗ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ΚΑΤΑΛΥ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imagesΩ"/>
          <p:cNvPicPr/>
          <p:nvPr/>
        </p:nvPicPr>
        <p:blipFill>
          <a:blip r:embed="rId1"/>
          <a:stretch/>
        </p:blipFill>
        <p:spPr>
          <a:xfrm>
            <a:off x="6372360" y="3357720"/>
            <a:ext cx="21952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4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4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4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4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4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4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4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4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4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4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4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4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4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4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4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4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4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4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4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4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4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4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ποτελεί ένα πολύτιμο εργαλείο της πράσινης χημεία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ρωτοεμφανίστηκε  το 19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 όρος εισάγεται τη δεκαετία του΄60 από τους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. Makosza, G. Μ. Starks, και Α. Brandst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υμβάλει στην προσπάθεια αντικατάστασης παραδοσιακών βιομηχανικών τεχνολογιών με αποτελεσματικότερες και καθαρότερε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λτίωση της αποδοτικότητας των χημικών διαδικασιώ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1547640" y="404640"/>
            <a:ext cx="5545440" cy="1295640"/>
          </a:xfrm>
          <a:custGeom>
            <a:avLst/>
            <a:gdLst>
              <a:gd name="textAreaLeft" fmla="*/ 0 w 5545440"/>
              <a:gd name="textAreaRight" fmla="*/ 5545800 w 5545440"/>
              <a:gd name="textAreaTop" fmla="*/ 167760 h 1295640"/>
              <a:gd name="textAreaBottom" fmla="*/ 11278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ΤΑΛΥΣΗ ΜΕΤΑΦΟΡΑΣ ΦΑ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2"/>
          <a:stretch/>
        </p:blipFill>
        <p:spPr>
          <a:xfrm>
            <a:off x="7308720" y="404640"/>
            <a:ext cx="12956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9" dur="1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5" dur="10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4"/>
          <p:cNvSpPr/>
          <p:nvPr/>
        </p:nvSpPr>
        <p:spPr>
          <a:xfrm>
            <a:off x="1979640" y="333360"/>
            <a:ext cx="5545080" cy="1297080"/>
          </a:xfrm>
          <a:custGeom>
            <a:avLst/>
            <a:gdLst>
              <a:gd name="textAreaLeft" fmla="*/ 0 w 5545080"/>
              <a:gd name="textAreaRight" fmla="*/ 5545440 w 5545080"/>
              <a:gd name="textAreaTop" fmla="*/ 168120 h 1297080"/>
              <a:gd name="textAreaBottom" fmla="*/ 112896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ΗΧΑΝΙΣΜΟΣ Τ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ΤΑΛΥΣΗΣ ΜΕΤΑΦΟΡΑΣ ΦΑ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_x001b_´"/>
          <p:cNvPicPr/>
          <p:nvPr/>
        </p:nvPicPr>
        <p:blipFill>
          <a:blip r:embed="rId2"/>
          <a:stretch/>
        </p:blipFill>
        <p:spPr>
          <a:xfrm>
            <a:off x="1116000" y="2421000"/>
            <a:ext cx="7201080" cy="3456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3640" y="1988640"/>
            <a:ext cx="856908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Εφαρμόζεται σε χημικές αντιδράσεις μεταξύ αντιδραστηρίων που βρίσκονται σε διαφορετικές φάσεις</a:t>
            </a:r>
            <a:endParaRPr b="0" lang="en-US" sz="1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324000" y="5661000"/>
            <a:ext cx="85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καταλύτης μεταφοράς φάση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GreenChem"/>
          <p:cNvPicPr/>
          <p:nvPr/>
        </p:nvPicPr>
        <p:blipFill>
          <a:blip r:embed="rId3"/>
          <a:stretch/>
        </p:blipFill>
        <p:spPr>
          <a:xfrm>
            <a:off x="6877080" y="4707000"/>
            <a:ext cx="187164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Παραδείγματα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1. Αντίδραση κυκλοεξανίου προς διχλωροκυκλοπροπάνι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1979640" y="333360"/>
            <a:ext cx="5545080" cy="1297080"/>
          </a:xfrm>
          <a:custGeom>
            <a:avLst/>
            <a:gdLst>
              <a:gd name="textAreaLeft" fmla="*/ 0 w 5545080"/>
              <a:gd name="textAreaRight" fmla="*/ 5545440 w 5545080"/>
              <a:gd name="textAreaTop" fmla="*/ 168120 h 1297080"/>
              <a:gd name="textAreaBottom" fmla="*/ 112896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ΗΧΑΝΙΣΜΟΣ Τ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ΤΑΛΥΣΗΣ ΜΕΤΑΦΟΡΑΣ ΦΑ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σάρωση0006"/>
          <p:cNvPicPr/>
          <p:nvPr/>
        </p:nvPicPr>
        <p:blipFill>
          <a:blip r:embed="rId2"/>
          <a:stretch/>
        </p:blipFill>
        <p:spPr>
          <a:xfrm>
            <a:off x="2050920" y="2828880"/>
            <a:ext cx="496908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4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4"/>
          <p:cNvSpPr/>
          <p:nvPr/>
        </p:nvSpPr>
        <p:spPr>
          <a:xfrm>
            <a:off x="1979640" y="333360"/>
            <a:ext cx="5545080" cy="1297080"/>
          </a:xfrm>
          <a:custGeom>
            <a:avLst/>
            <a:gdLst>
              <a:gd name="textAreaLeft" fmla="*/ 0 w 5545080"/>
              <a:gd name="textAreaRight" fmla="*/ 5545440 w 5545080"/>
              <a:gd name="textAreaTop" fmla="*/ 168120 h 1297080"/>
              <a:gd name="textAreaBottom" fmla="*/ 112896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ΗΧΑΝΙΣΜΟΣ Τ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ΤΑΛΥΣΗΣ ΜΕΤΑΦΟΡΑΣ ΦΑ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σάρωση0002"/>
          <p:cNvPicPr/>
          <p:nvPr/>
        </p:nvPicPr>
        <p:blipFill>
          <a:blip r:embed="rId2"/>
          <a:stretch/>
        </p:blipFill>
        <p:spPr>
          <a:xfrm>
            <a:off x="826920" y="2276640"/>
            <a:ext cx="76676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« Πράσινη Χημεία είναι η χρησιμοποίηση ενός συνόλου αρχών με την εφαρμογή των οποίων μειώνεται ή εξαλείφεται η χρήση ή η δημιουργία επικίνδυνων ουσιών στις διεργασίες σχεδιασμού, παραγωγής και εφαρμογής των χημικών προϊόντων»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Paul T. Ana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in_pic9"/>
          <p:cNvPicPr/>
          <p:nvPr/>
        </p:nvPicPr>
        <p:blipFill>
          <a:blip r:embed="rId1"/>
          <a:stretch/>
        </p:blipFill>
        <p:spPr>
          <a:xfrm>
            <a:off x="3400560" y="4292640"/>
            <a:ext cx="1780920" cy="187488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5"/>
          <p:cNvSpPr/>
          <p:nvPr/>
        </p:nvSpPr>
        <p:spPr>
          <a:xfrm>
            <a:off x="2340000" y="333360"/>
            <a:ext cx="4537080" cy="114300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ΑΣΙΝΗ ΧΗΜΕ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99640" y="1916280"/>
            <a:ext cx="7696440" cy="4038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2. Οξείδωση Φλουορενίου προς Φλουορεν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1979640" y="333360"/>
            <a:ext cx="5545080" cy="1297080"/>
          </a:xfrm>
          <a:custGeom>
            <a:avLst/>
            <a:gdLst>
              <a:gd name="textAreaLeft" fmla="*/ 0 w 5545080"/>
              <a:gd name="textAreaRight" fmla="*/ 5545440 w 5545080"/>
              <a:gd name="textAreaTop" fmla="*/ 168120 h 1297080"/>
              <a:gd name="textAreaBottom" fmla="*/ 112896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ΗΧΑΝΙΣΜΟΣ Τ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ΤΑΛΥΣΗΣ ΜΕΤΑΦΟΡΑΣ ΦΑ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σάρωση0003"/>
          <p:cNvPicPr/>
          <p:nvPr/>
        </p:nvPicPr>
        <p:blipFill>
          <a:blip r:embed="rId2"/>
          <a:stretch/>
        </p:blipFill>
        <p:spPr>
          <a:xfrm>
            <a:off x="971640" y="3429000"/>
            <a:ext cx="734544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5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4"/>
          <p:cNvSpPr/>
          <p:nvPr/>
        </p:nvSpPr>
        <p:spPr>
          <a:xfrm>
            <a:off x="1979640" y="333360"/>
            <a:ext cx="5545080" cy="1297080"/>
          </a:xfrm>
          <a:custGeom>
            <a:avLst/>
            <a:gdLst>
              <a:gd name="textAreaLeft" fmla="*/ 0 w 5545080"/>
              <a:gd name="textAreaRight" fmla="*/ 5545440 w 5545080"/>
              <a:gd name="textAreaTop" fmla="*/ 168120 h 1297080"/>
              <a:gd name="textAreaBottom" fmla="*/ 112896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ΗΧΑΝΙΣΜΟΣ Τ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ΤΑΛΥΣΗΣ ΜΕΤΑΦΟΡΑΣ ΦΑ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σάρωση0004"/>
          <p:cNvPicPr/>
          <p:nvPr/>
        </p:nvPicPr>
        <p:blipFill>
          <a:blip r:embed="rId2"/>
          <a:stretch/>
        </p:blipFill>
        <p:spPr>
          <a:xfrm>
            <a:off x="755640" y="2276640"/>
            <a:ext cx="802800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762120" y="1904760"/>
            <a:ext cx="755496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Δεν υπάρχει η ανάγκη ακριβών άνυδρων ή απρωτικών διαλυτών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Βελτιωμένη ταχύτητα αντίδραση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Ήπιες συνθήκες διεξαγωγής της αντίδραση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Πραγματοποίηση αντιδράσεων που διαφορετικά δεν θα γίνονταν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Εκλεκτικότητα αντιδράσεων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Επίτευξη επιθυμητών αλλαγών στην αναλογία των λαμβανόμενων προϊόντων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Αυξημένες αποδόσεις μέσω παρεμπόδισης των πλευρικών αντιδράσεων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1979640" y="333360"/>
            <a:ext cx="5545080" cy="1297080"/>
          </a:xfrm>
          <a:custGeom>
            <a:avLst/>
            <a:gdLst>
              <a:gd name="textAreaLeft" fmla="*/ 0 w 5545080"/>
              <a:gd name="textAreaRight" fmla="*/ 5545440 w 5545080"/>
              <a:gd name="textAreaTop" fmla="*/ 168120 h 1297080"/>
              <a:gd name="textAreaBottom" fmla="*/ 112896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ΛΕΟΝΕΚΤΗΜΑΤΑ Τ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ΤΑΛΥΣΗΣ ΜΕΤΑΦΟΡΑΣ ΦΑ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2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5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8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4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7" dur="10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0" dur="1000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τη σύνθεση εξειδικευμένων χημικών ουσιών που χρησιμοποιούνται σε φαρμακευτικά, διατροφικά προϊόντα και υλικά αρωματοποιίας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ιομηχανική παραγωγή: πλαστικά,  υλικά ημιαγωγώ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ε συνδυασμό με ένζυμα στις διαδικασίες βιοτεχνολογία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την υπερμοριακή χημεία και στη νανοτεχνολογία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1692360" y="333360"/>
            <a:ext cx="5545080" cy="1297080"/>
          </a:xfrm>
          <a:custGeom>
            <a:avLst/>
            <a:gdLst>
              <a:gd name="textAreaLeft" fmla="*/ 0 w 5545080"/>
              <a:gd name="textAreaRight" fmla="*/ 5545440 w 5545080"/>
              <a:gd name="textAreaTop" fmla="*/ 168120 h 1297080"/>
              <a:gd name="textAreaBottom" fmla="*/ 112896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ΦΑΡΜΟΓΗ Τ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ΤΑΛΥΣΗΣ ΜΕΤΑΦΟΡΑΣ ΦΑ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25-07-07_13"/>
          <p:cNvPicPr/>
          <p:nvPr/>
        </p:nvPicPr>
        <p:blipFill>
          <a:blip r:embed="rId2"/>
          <a:stretch/>
        </p:blipFill>
        <p:spPr>
          <a:xfrm>
            <a:off x="7164360" y="3068640"/>
            <a:ext cx="18334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υρηνόφιλες αντιδράσεις υποκατάστασης, όπως αλογονώσεις και κυανιώσει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Αντιδράσεις αλκυλίωσης και συμπύκνωση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Αφυδραλογόνωση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Υποκατάσταση με</a:t>
            </a:r>
            <a:r>
              <a:rPr b="0" lang="el-GR" sz="2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1.Υδροξείδιο του κυανίου, Υδρόλυσ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Φθορίδιο του Θειοκυανίου, κυανικά άλατ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3. Ιωδίδιο, σουλφίδιο, θειώδες άλα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4. Νιτρώδες αζιδίο, νιτρικό, κ.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5. Άλλη πυρηνόφιλη αλειφατική &amp; αρωματική υποκατάσταση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Οξειδώσεις και αναγωγέ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1692360" y="333360"/>
            <a:ext cx="5545080" cy="1297080"/>
          </a:xfrm>
          <a:custGeom>
            <a:avLst/>
            <a:gdLst>
              <a:gd name="textAreaLeft" fmla="*/ 0 w 5545080"/>
              <a:gd name="textAreaRight" fmla="*/ 5545440 w 5545080"/>
              <a:gd name="textAreaTop" fmla="*/ 168120 h 1297080"/>
              <a:gd name="textAreaBottom" fmla="*/ 112896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ΝΤΙΔΡΑΣΕΙΣ ΜΕ ΧΡΗ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ΤΑΛΥΣΗ ΜΕΤΑΦΟΡΑΣ ΦΑ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chemexp"/>
          <p:cNvPicPr/>
          <p:nvPr/>
        </p:nvPicPr>
        <p:blipFill>
          <a:blip r:embed="rId2"/>
          <a:stretch/>
        </p:blipFill>
        <p:spPr>
          <a:xfrm>
            <a:off x="7164360" y="2781360"/>
            <a:ext cx="14018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6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2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5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8" dur="2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1" dur="2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4" dur="2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7" dur="2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0" dur="20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3" dur="200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ροσθήκη Micha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Αλδολική συμπύκνωση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Αντιδράσεις Wittig και Wittig – Horn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Συμπύκνωση Darze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Αντιδράσεις Καρβενίω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Θειοφωσφορυλίωση (Thiophosphorylation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Καρβονυλίωση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Αντιδράσεις HCl/ HB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Συγκατάλυση μετάβατικών μετάλλω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Οποιαδήποτε από τις παραπάνω αντιδράσεις προς σύνθεση πολυμερώ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Αντιδράσεις απόσπασης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692360" y="333360"/>
            <a:ext cx="5545080" cy="1297080"/>
          </a:xfrm>
          <a:custGeom>
            <a:avLst/>
            <a:gdLst>
              <a:gd name="textAreaLeft" fmla="*/ 0 w 5545080"/>
              <a:gd name="textAreaRight" fmla="*/ 5545440 w 5545080"/>
              <a:gd name="textAreaTop" fmla="*/ 168120 h 1297080"/>
              <a:gd name="textAreaBottom" fmla="*/ 112896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ΝΤΙΔΡΑΣΕΙΣ ΜΕ ΧΡΗ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ΤΑΛΥΣΗ ΜΕΤΑΦΟΡΑΣ ΦΑ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0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6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9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2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5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8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1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4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7" dur="20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0" dur="2000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100" spc="-1" strike="noStrike">
                <a:solidFill>
                  <a:srgbClr val="000000"/>
                </a:solidFill>
                <a:latin typeface="Arial"/>
              </a:rPr>
              <a:t>Τετρααλκυλαμμωνιακά άλατα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100" spc="-1" strike="noStrike">
                <a:solidFill>
                  <a:srgbClr val="000000"/>
                </a:solidFill>
                <a:latin typeface="Arial"/>
              </a:rPr>
              <a:t>Αιθέρες – στέμματα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100" spc="-1" strike="noStrike">
                <a:solidFill>
                  <a:srgbClr val="000000"/>
                </a:solidFill>
                <a:latin typeface="Arial"/>
              </a:rPr>
              <a:t>Μεταβατικά μέταλλα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100" spc="-1" strike="noStrike">
                <a:solidFill>
                  <a:srgbClr val="000000"/>
                </a:solidFill>
                <a:latin typeface="Arial"/>
              </a:rPr>
              <a:t>Πολυαιθυλενογλυκόλη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PEG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1692360" y="333360"/>
            <a:ext cx="5545080" cy="1297080"/>
          </a:xfrm>
          <a:custGeom>
            <a:avLst/>
            <a:gdLst>
              <a:gd name="textAreaLeft" fmla="*/ 0 w 5545080"/>
              <a:gd name="textAreaRight" fmla="*/ 5545440 w 5545080"/>
              <a:gd name="textAreaTop" fmla="*/ 168120 h 1297080"/>
              <a:gd name="textAreaBottom" fmla="*/ 112896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ΤΑΛΥΤΕΣ ΜΕΤΑΦΟΡΑΣ ΦΑ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2"/>
          <a:stretch/>
        </p:blipFill>
        <p:spPr>
          <a:xfrm>
            <a:off x="6659640" y="2708280"/>
            <a:ext cx="19224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3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6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Αποβολή των οργανικών διαλυτώ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Αποβολή των επικίνδυνων και ακριβών αντιδραστηρί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Υψηλό ποσοστό παραγωγής και καθαρότητα των   προϊόντ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Απλότητα της διαδικασί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Χαμηλό κόστος επένδυση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Μικρή κατανάλωση ενέργεια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Ελαχιστοποίηση των βιομηχανικών αποβλήτω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1979640" y="333360"/>
            <a:ext cx="5545080" cy="1297080"/>
          </a:xfrm>
          <a:custGeom>
            <a:avLst/>
            <a:gdLst>
              <a:gd name="textAreaLeft" fmla="*/ 0 w 5545080"/>
              <a:gd name="textAreaRight" fmla="*/ 5545440 w 5545080"/>
              <a:gd name="textAreaTop" fmla="*/ 168120 h 1297080"/>
              <a:gd name="textAreaBottom" fmla="*/ 112896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ΛΕΟΝΕΚΤΗΜΑΤΑ Σ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ΒΙΟΜΗΧΑΝΙΚΕΣ ΕΦΑΡΜΟΓ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imagesΛ"/>
          <p:cNvPicPr/>
          <p:nvPr/>
        </p:nvPicPr>
        <p:blipFill>
          <a:blip r:embed="rId2"/>
          <a:stretch/>
        </p:blipFill>
        <p:spPr>
          <a:xfrm>
            <a:off x="6732720" y="3500280"/>
            <a:ext cx="180000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6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9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2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5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8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Αντιδράσεις με κατάλυση μεταφοράς φάσης σε διαλύτη  υπερκρίσιμο ρευστό (CO</a:t>
            </a:r>
            <a:r>
              <a:rPr b="0" lang="el-GR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ρόκειται για αντιδράσεις υποκατάστασης, αλκυλίωσης, και καρβοξυλίωση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Παράδειγμα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ντίδραση σχηματισμού φαινυλοακετονιτριλίο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3"/>
          <p:cNvSpPr/>
          <p:nvPr/>
        </p:nvSpPr>
        <p:spPr>
          <a:xfrm>
            <a:off x="1979640" y="333360"/>
            <a:ext cx="5545080" cy="1297080"/>
          </a:xfrm>
          <a:custGeom>
            <a:avLst/>
            <a:gdLst>
              <a:gd name="textAreaLeft" fmla="*/ 0 w 5545080"/>
              <a:gd name="textAreaRight" fmla="*/ 5545440 w 5545080"/>
              <a:gd name="textAreaTop" fmla="*/ 168120 h 1297080"/>
              <a:gd name="textAreaBottom" fmla="*/ 112896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ΡΑΣΙΝΕΣ ΔΙΑΔΙΚΑΣΙΕΣ Μ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ΤΑΛΥΣΗ ΜΕΤΑΦΟΡΑΣ ΦΑ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Object 14"/>
          <p:cNvGraphicFramePr/>
          <p:nvPr/>
        </p:nvGraphicFramePr>
        <p:xfrm>
          <a:off x="826920" y="4941720"/>
          <a:ext cx="7777440" cy="102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4941720"/>
                    <a:ext cx="7777440" cy="10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9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6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9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2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4360" y="177336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Arial"/>
              </a:rPr>
              <a:t>Πλεονεκτήματα χρήσης υπερκρίσιμων ρευστών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λύτερες διαλυτικές ιδιότητε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λλαγές των ιδιοτήτων μιας ένωση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Θετικές επιδράσεις για τον άνθρωπ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Φιλικό προς το περιβάλλο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Ήπιες συνθήκες αντίδρα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γαλύτερη εκλεκτικότητ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ίωση των περιορισμών της μεταφοράς μάζ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1979640" y="333360"/>
            <a:ext cx="5545080" cy="1297080"/>
          </a:xfrm>
          <a:custGeom>
            <a:avLst/>
            <a:gdLst>
              <a:gd name="textAreaLeft" fmla="*/ 0 w 5545080"/>
              <a:gd name="textAreaRight" fmla="*/ 5545440 w 5545080"/>
              <a:gd name="textAreaTop" fmla="*/ 168120 h 1297080"/>
              <a:gd name="textAreaBottom" fmla="*/ 112896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ΡΑΣΙΝΕΣ ΔΙΑΔΙΚΑΣΙΕΣ Μ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ΤΑΛΥΣΗ ΜΕΤΑΦΟΡΑΣ ΦΑ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9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9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9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9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9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9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9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9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300" spc="-1" strike="noStrike">
                <a:solidFill>
                  <a:srgbClr val="336666"/>
                </a:solidFill>
                <a:latin typeface="Arial Black"/>
              </a:rPr>
              <a:t>ΠΡΑΣΙΝΗ ΧΗΜΕΙΑ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μφανίστηκε δυναμικά στον επιστημονικό χώρο το 199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Καλείται και Βιώσιμη Χημεία (Sustainable Chemistry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Δίνει τη δυνατότητα οι ουσίες να σχεδιαστούν έτσι ώστε να προστατεύεται η ανθρώπινη υγεία και να διατηρείται το περιβάλλο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ίναι τρόπος σκέψης και δράσης, που αφορά στην αντιμετώπιση του περιβαλλοντικού προβλήματος, που σχετίζεται με την παραγωγή, χρήση και διάθεση των χημικών αποβλήτω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1763640" y="333360"/>
            <a:ext cx="5688000" cy="114300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ΑΣΙΝΗ ΧΗΜΕ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000000"/>
                </a:solidFill>
                <a:uFillTx/>
                <a:latin typeface="Arial"/>
              </a:rPr>
              <a:t>Χρήση μικροκυματικής ακτινοβολία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Αντίδραση δευτερίωσης βενζοϊκού οξέο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Arial"/>
              </a:rPr>
              <a:t>Πλεονεκτήματα μικροκυματικής θέρμανση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Οικονομία χρόνο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Μικρότερο κόστο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ροστασία περιβάλλοντο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Καθαρά προϊόντα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100% εκλεκτικότητ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1979640" y="333360"/>
            <a:ext cx="5545080" cy="1297080"/>
          </a:xfrm>
          <a:custGeom>
            <a:avLst/>
            <a:gdLst>
              <a:gd name="textAreaLeft" fmla="*/ 0 w 5545080"/>
              <a:gd name="textAreaRight" fmla="*/ 5545440 w 5545080"/>
              <a:gd name="textAreaTop" fmla="*/ 168120 h 1297080"/>
              <a:gd name="textAreaBottom" fmla="*/ 112896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ΡΑΣΙΝΕΣ ΔΙΑΔΙΚΑΣΙΕΣ Μ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ΤΑΛΥΣΗ ΜΕΤΑΦΟΡΑΣ ΦΑ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5"/>
          <p:cNvGraphicFramePr/>
          <p:nvPr/>
        </p:nvGraphicFramePr>
        <p:xfrm>
          <a:off x="2627280" y="2637000"/>
          <a:ext cx="3940200" cy="141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2637000"/>
                    <a:ext cx="3940200" cy="14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9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9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9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9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900" fill="hold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900" fill="hold"/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900" fill="hold"/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900" fill="hold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000000"/>
                </a:solidFill>
                <a:uFillTx/>
                <a:latin typeface="Arial"/>
              </a:rPr>
              <a:t>Εποξείδωση ολεφινώ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εποξείδωση των ολεφινών με H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πραγματοποιείται με έναν καταλύτη που περιέχει βολφράμι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Όταν το H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καταναλωθεί ο καταλύτης απομονώνεται εύκολα ως ίζημα και μπορεί εύκολα να ανακυκλωθε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1763640" y="333360"/>
            <a:ext cx="5545080" cy="1297080"/>
          </a:xfrm>
          <a:custGeom>
            <a:avLst/>
            <a:gdLst>
              <a:gd name="textAreaLeft" fmla="*/ 0 w 5545080"/>
              <a:gd name="textAreaRight" fmla="*/ 5545440 w 5545080"/>
              <a:gd name="textAreaTop" fmla="*/ 168120 h 1297080"/>
              <a:gd name="textAreaBottom" fmla="*/ 112896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ΡΑΣΙΝΕΣ ΔΙΑΔΙΚΑΣΙΕΣ Μ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ΤΑΛΥΣΗ ΜΕΤΑΦΟΡΑΣ ΦΑ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6"/>
          <p:cNvGraphicFramePr/>
          <p:nvPr/>
        </p:nvGraphicFramePr>
        <p:xfrm>
          <a:off x="684360" y="4941720"/>
          <a:ext cx="7993080" cy="77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4941720"/>
                    <a:ext cx="799308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9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9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9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000000"/>
                </a:solidFill>
                <a:uFillTx/>
                <a:latin typeface="Arial"/>
              </a:rPr>
              <a:t>Παραγωγή αδιπικού οξέο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Φιλική προς το περιβάλλον διαδικασί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 νερό είναι το μόνο παραπροϊόν της αντιδράσεω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αντίδραση είναι καθαρή, ασφαλής και απαλλαγμένη από τοξικούς  διαλύτε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1979640" y="333360"/>
            <a:ext cx="5545080" cy="1297080"/>
          </a:xfrm>
          <a:custGeom>
            <a:avLst/>
            <a:gdLst>
              <a:gd name="textAreaLeft" fmla="*/ 0 w 5545080"/>
              <a:gd name="textAreaRight" fmla="*/ 5545440 w 5545080"/>
              <a:gd name="textAreaTop" fmla="*/ 168120 h 1297080"/>
              <a:gd name="textAreaBottom" fmla="*/ 112896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ΡΑΣΙΝΕΣ ΔΙΑΔΙΚΑΣΙΕΣ Μ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ΤΑΛΥΣΗ ΜΕΤΑΦΟΡΑΣ ΦΑ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CAOHERWP"/>
          <p:cNvPicPr/>
          <p:nvPr/>
        </p:nvPicPr>
        <p:blipFill>
          <a:blip r:embed="rId2"/>
          <a:stretch/>
        </p:blipFill>
        <p:spPr>
          <a:xfrm>
            <a:off x="5940360" y="1773360"/>
            <a:ext cx="234000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Object 13"/>
          <p:cNvGraphicFramePr/>
          <p:nvPr/>
        </p:nvGraphicFramePr>
        <p:xfrm>
          <a:off x="1547640" y="4869000"/>
          <a:ext cx="597708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4869000"/>
                    <a:ext cx="597708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9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9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9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9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762120" y="1904760"/>
            <a:ext cx="78422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υρηνόφιλες αλειφατικές και αρωματικές υποκαταστάσει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τιδράσεις αποβολής και ισομερισμο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τιδράσεις αιθεροποίησης, εστεροποίησης και υδρόλυση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λδολική και υπόλοιπες αντιδράσεις συμπύκνω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 διαλύτες υπερκρίσιμα ρευστ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1979640" y="333360"/>
            <a:ext cx="5545080" cy="1297080"/>
          </a:xfrm>
          <a:custGeom>
            <a:avLst/>
            <a:gdLst>
              <a:gd name="textAreaLeft" fmla="*/ 0 w 5545080"/>
              <a:gd name="textAreaRight" fmla="*/ 5545440 w 5545080"/>
              <a:gd name="textAreaTop" fmla="*/ 168120 h 1297080"/>
              <a:gd name="textAreaBottom" fmla="*/ 112896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ΡΟΟΔΟΣ ΣΕ ΑΝΤΙΔΡΑΣΕΙ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ΤΑΛΥΣΗΣ ΜΕΤΑΦΟΡΑΣ ΦΑ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flask"/>
          <p:cNvPicPr/>
          <p:nvPr/>
        </p:nvPicPr>
        <p:blipFill>
          <a:blip r:embed="rId2"/>
          <a:stretch/>
        </p:blipFill>
        <p:spPr>
          <a:xfrm>
            <a:off x="7093080" y="4508640"/>
            <a:ext cx="14904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1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4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7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0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3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000000"/>
                </a:solidFill>
                <a:latin typeface="Arial"/>
              </a:rPr>
              <a:t>Αντίστροφη κατάλυση μεταφοράς φάσης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εταφορά λιπόφιλων αντιδραστηρίων από την οργανική στην υδατική φάσ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ντίδραση με υδρόφιλες ενώσει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Χρήση ,κυρίως, σε οργανικές συνθέσει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υνηθισμένος καταλύτης Ν-οξείδιο πυριδίνης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ηχανισμοί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ντίστροφη μετατροπή οργανοφιλικού υποστρώματος σε ιοντικό υδατοδιαλυτό ενδιάμεσ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υμπλοκοποίηση των οργανικών υποστρωμάτων από υδρόφιλες μακροκυκλικές ενώσεις(κυκλοδεξτρίνε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ιαλυτοποίηση οργανικών υποστρωμάτων από υδατικά συστήματα μικυλλί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"/>
          <p:cNvSpPr/>
          <p:nvPr/>
        </p:nvSpPr>
        <p:spPr>
          <a:xfrm>
            <a:off x="1979640" y="333360"/>
            <a:ext cx="5545080" cy="1297080"/>
          </a:xfrm>
          <a:custGeom>
            <a:avLst/>
            <a:gdLst>
              <a:gd name="textAreaLeft" fmla="*/ 0 w 5545080"/>
              <a:gd name="textAreaRight" fmla="*/ 5545440 w 5545080"/>
              <a:gd name="textAreaTop" fmla="*/ 168120 h 1297080"/>
              <a:gd name="textAreaBottom" fmla="*/ 112896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ΡΟΟΔΟΣ ΣΕ ΑΝΤΙΔΡΑΣΕΙ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ΤΑΛΥΣΗΣ ΜΕΤΑΦΟΡΑΣ ΦΑ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2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7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2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7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2" dur="1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7" dur="1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0" dur="10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3" dur="10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6" dur="10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61760" y="1905120"/>
            <a:ext cx="4314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Χρήση καταλυτικών μεμβρανών και αντιδραστηρίων μεμβράνη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ισαγωγή μεμβρανών μικρών πόρων μεταξύ οργανικών και υδατικών διαλύμάτω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ταθεροποίηση της διεπαφής και ανάμειξη των φάσεω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ποφυγή δημιουργίας γαλακτώματος και μείωση αποβλήτ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λεκτροχημική αναγέννηση του οξειδωτικο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1979640" y="333360"/>
            <a:ext cx="5545080" cy="1297080"/>
          </a:xfrm>
          <a:custGeom>
            <a:avLst/>
            <a:gdLst>
              <a:gd name="textAreaLeft" fmla="*/ 0 w 5545080"/>
              <a:gd name="textAreaRight" fmla="*/ 5545440 w 5545080"/>
              <a:gd name="textAreaTop" fmla="*/ 168120 h 1297080"/>
              <a:gd name="textAreaBottom" fmla="*/ 112896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ΡΟΟΔΟΣ ΣΕ ΑΝΤΙΔΡΑΣΕΙ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ΤΑΛΥΣΗΣ ΜΕΤΑΦΟΡΑΣ ΦΑ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5"/>
          <p:cNvGraphicFramePr/>
          <p:nvPr/>
        </p:nvGraphicFramePr>
        <p:xfrm>
          <a:off x="5003640" y="2492280"/>
          <a:ext cx="3916440" cy="316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3640" y="2492280"/>
                    <a:ext cx="391644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4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4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1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4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4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1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8" dur="4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4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1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4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4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1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4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4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71640" y="1773360"/>
            <a:ext cx="7624800" cy="106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Σας Ευχαριστούμε!!!!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215" name="Picture 4" descr="j0281904"/>
          <p:cNvPicPr/>
          <p:nvPr/>
        </p:nvPicPr>
        <p:blipFill>
          <a:blip r:embed="rId1"/>
          <a:stretch/>
        </p:blipFill>
        <p:spPr>
          <a:xfrm>
            <a:off x="3059280" y="3141720"/>
            <a:ext cx="374328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569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: Ψήφιση νόμου για τη πρόληψη της ρύπανση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199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: Ίδρυση του Γραφείου των Τοξικών ουσιών και  Πρόληψης της Ρύπανσης και εκπόνηση του πρώτου ερευνητικού προγράμματος με υιοθέτηση των αρχών και στόχων της Πράσινης Χημεία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199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: Εκπόνηση προγράμματος με την επωνυμία  «Πρόγραμμα φιλικών προς το περιβάλλον συνθέσεων και  διαδικασιών» από το Εθνικό Ίδρυμα Επιστημών (NSF) των Η.Π.Α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1993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:  Πρώτη φορά χρησιμοποιήθηκε  ο όρος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ράσινη Χημεία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από τον Paul Anas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1995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: Εμφάνιση στις Η.Π.Α  ο θεσμός των Προεδρικών Βραβείων της Πράσινης Χημείας (Presidential Green Chemistry Challenge Awards, PGCC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1996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: Έγκριση της IUPACγια δημιουργία ομάδας εργασίας στην Πράσινη Χημεία 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Working Party on Green Chemistr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: Η πρώτη διεθνής σύνοδος της Πράσινης Χημείας και η δημιουργία του Ινστιτούτου  Πράσινης Χημεία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1116000" y="189000"/>
            <a:ext cx="7129440" cy="151272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ΙΣΤΟΡΙΚΟ ΤΗΣ ΠΡΑΣΙΝΗΣ ΧΗΜΕΙΑ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95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Βιομηχανία- βιομηχανικά απόβλητ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95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Αστικά απόβλητα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95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Τοξικές χημικές ουσίε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95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Καθαρό νερό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95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ναλλακτικές πηγές ενέργεια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95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Παραγωγή τροφή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971640" y="189000"/>
            <a:ext cx="7273800" cy="148428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ΕΦΑΡΜΟΓΕΣ ΤΗΣ ΠΡΑΣΙΝΗΣ ΧΗΜΕΙ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D2608WB1"/>
          <p:cNvPicPr/>
          <p:nvPr/>
        </p:nvPicPr>
        <p:blipFill>
          <a:blip r:embed="rId1"/>
          <a:stretch/>
        </p:blipFill>
        <p:spPr>
          <a:xfrm>
            <a:off x="5580000" y="2481120"/>
            <a:ext cx="33130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9280" y="1916280"/>
            <a:ext cx="8280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τόχοι της Πράσινης Χημεία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ροώθηση των τεχνολογικών επιτευγμάτων κατά τρόπο βιώσιμ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είωση επικίνδυνων ουσιών που σχετίζονται με προϊόντα και διεργασίες,απαραίτητα για την διατήρηση της ποιότητας ζωή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1332000" y="260280"/>
            <a:ext cx="6264360" cy="129708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ΣΤΟΧΟΙ ΚΑΙ ΑΡΧ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χημεια"/>
          <p:cNvPicPr/>
          <p:nvPr/>
        </p:nvPicPr>
        <p:blipFill>
          <a:blip r:embed="rId1"/>
          <a:stretch/>
        </p:blipFill>
        <p:spPr>
          <a:xfrm>
            <a:off x="5580000" y="4292640"/>
            <a:ext cx="25099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77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77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560" y="1904760"/>
            <a:ext cx="889308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Οι 12 Αρχές της Πράσινης Χημεία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ρόληψ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ικονομία ατόμ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Λιγότερο επικίνδυνες χημικές συνθέσει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χεδιασμός ασφαλέστερων χημικών προϊόντω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σφαλέστεροι διαλύτες και βοηθητικά μέσ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χεδιασμός για ενεργειακή αποτελεσματικότητ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Χρήση ανανεώσιμων πρώτων υλώ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είωση ενδιαμέσων παραγώγω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τάλυ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χεδιασμός αποικοδομήσιμων προϊόντω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νάλυση πραγματικού χρόνου για πρόληψη της ρύπανση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σφαλέστερη χημεία για την πρόληψη ατυχημάτω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filA44"/>
          <p:cNvPicPr/>
          <p:nvPr/>
        </p:nvPicPr>
        <p:blipFill>
          <a:blip r:embed="rId1"/>
          <a:stretch/>
        </p:blipFill>
        <p:spPr>
          <a:xfrm>
            <a:off x="6732720" y="2781360"/>
            <a:ext cx="1725480" cy="187812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7"/>
          <p:cNvSpPr/>
          <p:nvPr/>
        </p:nvSpPr>
        <p:spPr>
          <a:xfrm>
            <a:off x="1332000" y="260280"/>
            <a:ext cx="6264360" cy="129708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ΣΤΟΧΟΙ ΚΑΙ ΑΡΧ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4"/>
          <p:cNvSpPr/>
          <p:nvPr/>
        </p:nvSpPr>
        <p:spPr>
          <a:xfrm>
            <a:off x="1332000" y="404640"/>
            <a:ext cx="6408720" cy="1224000"/>
          </a:xfrm>
          <a:custGeom>
            <a:avLst/>
            <a:gdLst>
              <a:gd name="textAreaLeft" fmla="*/ 1602000 w 6408720"/>
              <a:gd name="textAreaRight" fmla="*/ 4806720 w 6408720"/>
              <a:gd name="textAreaTop" fmla="*/ 0 h 1224000"/>
              <a:gd name="textAreaBottom" fmla="*/ 1071000 h 1224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ΚΑΤΑΛ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Η χημική κατάλυση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είναι η αύξηση της ταχύτητας μιας χημικής αντίδρασης που οφείλεται στη παρουσία καταλύτ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Καταλύτη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ονομάζεται μία χημική ουσία που αλλάζει τη ταχύτητα μιας χημικής αντίδρασης χωρίς όμως να μεταβάλλεται η ίδια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7164360" y="4869000"/>
            <a:ext cx="12859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8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1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5300280"/>
            <a:ext cx="7696080" cy="3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6666"/>
                </a:solidFill>
                <a:latin typeface="Arial Black"/>
              </a:rPr>
              <a:t>Μηχανισμός της κατάλυσης 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842240" cy="325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l-GR" sz="2700" spc="-1" strike="noStrike">
                <a:solidFill>
                  <a:srgbClr val="000000"/>
                </a:solidFill>
                <a:latin typeface="Arial"/>
              </a:rPr>
              <a:t>1. Χ + Κ → X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l-GR" sz="2700" spc="-1" strike="noStrike">
                <a:solidFill>
                  <a:srgbClr val="000000"/>
                </a:solidFill>
                <a:latin typeface="Arial"/>
              </a:rPr>
              <a:t>2. Υ + XΚ → XY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l-GR" sz="2700" spc="-1" strike="noStrike">
                <a:solidFill>
                  <a:srgbClr val="000000"/>
                </a:solidFill>
                <a:latin typeface="Arial"/>
              </a:rPr>
              <a:t>3. XYΚ → ΚZ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l-GR" sz="2700" spc="-1" strike="noStrike">
                <a:solidFill>
                  <a:srgbClr val="000000"/>
                </a:solidFill>
                <a:latin typeface="Arial"/>
              </a:rPr>
              <a:t>4. ΚZ → Γ + 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1258920" y="476280"/>
            <a:ext cx="7200720" cy="1152360"/>
          </a:xfrm>
          <a:custGeom>
            <a:avLst/>
            <a:gdLst>
              <a:gd name="textAreaLeft" fmla="*/ 1800000 w 7200720"/>
              <a:gd name="textAreaRight" fmla="*/ 5400720 w 7200720"/>
              <a:gd name="textAreaTop" fmla="*/ 0 h 1152360"/>
              <a:gd name="textAreaBottom" fmla="*/ 1008360 h 1152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ΜΗΧΑΝΙΣΜΟΣ ΤΗ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ΚΑΤΑΛΥ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539640" y="5715000"/>
            <a:ext cx="79408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 Black"/>
              </a:rPr>
              <a:t>Κ = καταλύτης   Χ,Υ = αντιδρώντα  Ζ = προϊόν της αντίδρασης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9"/>
          <p:cNvGraphicFramePr/>
          <p:nvPr/>
        </p:nvGraphicFramePr>
        <p:xfrm>
          <a:off x="7524720" y="5229360"/>
          <a:ext cx="1079640" cy="93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5229360"/>
                    <a:ext cx="107964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Picture 11" descr="σάρωση0005"/>
          <p:cNvPicPr/>
          <p:nvPr/>
        </p:nvPicPr>
        <p:blipFill>
          <a:blip r:embed="rId3"/>
          <a:stretch/>
        </p:blipFill>
        <p:spPr>
          <a:xfrm>
            <a:off x="539640" y="1700280"/>
            <a:ext cx="3816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0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0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5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21:24:45Z</dcterms:created>
  <dc:creator>user</dc:creator>
  <dc:description/>
  <dc:language>en-US</dc:language>
  <cp:lastModifiedBy>Dimitris Giannakoudakis</cp:lastModifiedBy>
  <dcterms:modified xsi:type="dcterms:W3CDTF">2012-02-09T22:59:11Z</dcterms:modified>
  <cp:revision>187</cp:revision>
  <dc:subject/>
  <dc:title>ΑΡΙΣΤΟΤΕΛΕΙΟ ΠΑΝΕΠΙΣΤΗΜΙΟ ΘΕΣΣΑΛΟΝΙΚΗΣ ΤΜΗΜΑ ΧΗΜΕΙΑΣ Διαπανεπιστημιακό Διατμηματικό Πρόγραμμα Μεταπτυχιακών  Σπουδών της Διδακτικής της Χημείας και των Νέων Εκπαιδευτικών Τεχνολογιών  </dc:title>
</cp:coreProperties>
</file>